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9.wmf" ContentType="image/x-wmf"/>
  <Override PartName="/ppt/media/image16.wmf" ContentType="image/x-wmf"/>
  <Override PartName="/ppt/media/image14.jpeg" ContentType="image/jpeg"/>
  <Override PartName="/ppt/media/image13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15.jpeg" ContentType="image/jpeg"/>
  <Override PartName="/ppt/media/image5.wmf" ContentType="image/x-wmf"/>
  <Override PartName="/ppt/media/image6.png" ContentType="image/png"/>
  <Override PartName="/ppt/media/chimes.wav" ContentType="audio/x-wav"/>
  <Override PartName="/ppt/media/image11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A4BF-DF73-4E51-8EBD-819338AB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4401-CD08-4313-BF93-4B8EBBD9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1080-9615-4D58-95DD-8A8FF4E1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1B74-F869-4836-A05B-52A6CA33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667D-B925-4574-9E87-9338DE5A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11D8-AFA1-400F-872E-AE4A1179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8C55-4152-43B8-8A63-080DD0CA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6874-9A4B-4C41-B6D8-9EE4F3B1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2A37-8773-4F32-B869-53592453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721A-2691-495A-A36B-D9E3BC5F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596D-DA93-4233-AA91-C8979162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B2F9-DC2D-4DC5-BCBE-5E0C520B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6BC8-F6E0-4046-894E-F5A7576D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0A0D-86DF-40FF-9BC0-A1B4295B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4069-3950-40E7-B3AE-8F65798E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8DEE-CD6B-4A12-BE7F-51CF90EC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5112-648D-433B-9D5B-F3ECF8DD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3783-E826-48D9-B373-B70357D9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D1C3-0FBC-4DB9-B659-5687E35E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4E25-1668-4DBF-99A7-BB8DBF07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C283-0FC5-4B43-A13A-11549935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B844-44E1-45AE-9B14-1F3EE4F1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DCD1-0021-4586-A15A-59F9861F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0A23-71D6-4FA3-AA44-92C8D2C5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1C8E-0CC5-424C-A7AC-9604B5868C29}" type="slidenum">
              <a:rPr b="0" lang="zh-CN" sz="8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92000" y="2538360"/>
            <a:ext cx="640692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D987-683B-4CC8-AB85-B6C0A0B1F2C4}" type="slidenum">
              <a:rPr b="0" lang="zh-CN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window.clearTimeout(_ht%5B8%5D)%3Bqs_show_frame(event,this,8)%3B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286000" y="990720"/>
            <a:ext cx="5715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食品包装上的信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63360"/>
            <a:ext cx="405612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整理者：建德市新安江第一小学 秦爱军</a:t>
            </a:r>
            <a:endParaRPr b="0" lang="en-US" sz="20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09480" y="3124080"/>
            <a:ext cx="2362320" cy="1844640"/>
            <a:chOff x="609480" y="3124080"/>
            <a:chExt cx="2362320" cy="18446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609480" y="3124080"/>
              <a:ext cx="1187640" cy="17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1676520" y="3900600"/>
              <a:ext cx="1295280" cy="106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0" y="5591160"/>
            <a:ext cx="6458040" cy="1266840"/>
            <a:chOff x="0" y="5591160"/>
            <a:chExt cx="6458040" cy="1266840"/>
          </a:xfrm>
        </p:grpSpPr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0" y="5591160"/>
              <a:ext cx="2190600" cy="12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4267080" y="5646600"/>
              <a:ext cx="2190960" cy="12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2133720" y="5622840"/>
              <a:ext cx="2190600" cy="1235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28600" y="5486400"/>
            <a:ext cx="1752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考考你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9480" y="4648320"/>
            <a:ext cx="884520" cy="1108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1447920"/>
            <a:ext cx="89917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判断题：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1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食品包装上的信息，能为我们科学、均衡、营养地选择食物提供帮助。（           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2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食品自身的特点、保存方法、配料等都会影响食品的保质期长短。（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3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保质期短的食物一定比保质期长的食物好。（   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4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厂家生产食品时采用不同的包装，仅仅是为了美观，提高销量。（  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5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食品添加剂能改善食品的色香味，但是食用过多对人体有害。（    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2448000" cy="2481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438280" y="1981080"/>
            <a:ext cx="2514600" cy="2502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752480" y="0"/>
            <a:ext cx="2590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你认识吗？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952880" y="1981080"/>
            <a:ext cx="3168720" cy="2535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0" y="4481640"/>
            <a:ext cx="223200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2362320" y="4494240"/>
            <a:ext cx="2819160" cy="2174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266472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资料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：防腐剂我国允许使用的共有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种。许多食品都含有防腐剂，过多或长期食用还有可能产生病变，形成有强烈致癌作用的物质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通常允许使用的绿色防腐剂为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“山梨酸钾”。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4952880"/>
            <a:ext cx="1468440" cy="1730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267080" y="5562720"/>
            <a:ext cx="327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下课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25520" y="2039040"/>
            <a:ext cx="871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食品添加剂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是指为改善食品品质和色、香、味，以及为防腐和加工工艺的需要而加入食品中的化学合成或天然物质。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594360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0920" y="266508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转化糖浆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是一种淡黄色透明液体，具有粘度小、溶解度与吸水性高、甜味好的特点。甜味为砂糖的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1.3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倍。蔗糖在受触媒催化，与水起分解作用，还原成葡糖糖和果糖。一分子的蔗糖水解后为一分子的葡萄糖及一分子的果糖，而蔗糖原有的旋光性也由左旋转为右旋，此转化后的混合物就是转化糖，反应结束后加入碱液中和酸性就得到转化糖浆。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594360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474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膨松剂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 化学膨松剂可以分为两种：一是碱性膨松剂，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如碳酸氢钠（小苏打）、碳酸氢铵（臭粉）；另一种是复合膨松剂，如钾明矾和铵明矾。碱性膨松剂在一定温度下在面团中缓慢分解，从而释放出二氧化碳，使面团膨胀；复合膨松剂则是由碱剂、酸剂与填充剂混合而成，在加热的面团中，酸和碱会产生反应释放出二氧化碳。我国最古老的油条，就是面粉中加入化学膨松剂明矾油炸而成。明矾中含有铝，对人体是极有危害的。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94360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加了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膨松剂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所以又松又脆！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2546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食用香精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是参照天然食品的香味，采用天然和天然等同香料、合成香料经精心调配而成具有天然风味的各种香型的香精。包括水果类水质和油质、奶类、家禽类、肉类、蔬菜类、坚果类、蜜饯类、乳化类以及酒类等各种香精，适用于饮料、饼干、糕点、冷冻食品、糖果、调味料、乳制品、罐头、酒等食品中。食用香精的剂型有液体、粉末、微胶囊、浆状等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594360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737720"/>
            <a:ext cx="8966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乳化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是需要量较大的一种食品添加剂，世界食用乳化剂允许使用的品种约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余种，我国已批准使用的品种有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种。主要品种有：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）卵磷脂，属于从动植物提取的天然乳化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和营养强化剂。主要品种是大豆卵磷脂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）蔗糖脂肪酸酯。可以代替食用油，又不产生热量，不至使人发胖，还有降血清胆固醇等作用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）甘油脂肪酸酯等。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609588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457200"/>
            <a:ext cx="4876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一、观察食品包装上的信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4479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观察食品包装袋或包装盒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209680"/>
            <a:ext cx="815328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559085"/>
                </a:solidFill>
                <a:uFillTx/>
                <a:latin typeface="Arial"/>
                <a:hlinkClick r:id="rId1"/>
              </a:rPr>
              <a:t>讨论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：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食品为什么会有这么多种不同的包装呢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.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一般的包装袋上有哪几类信息呢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我们从食品包装袋上能获得哪些信息呢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95880" y="405432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A.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需要避光的食物，包装一般是不透明的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怕磕碰的食物，包装大多比较硬实；肉制食品多为真空包装…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24480" y="5181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B.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食品的配料、营养成分、保质期和保存方式…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479160"/>
            <a:ext cx="889308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C.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一般的食品包装上都有：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生产日期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保质期或有限期限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产品配料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条形码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净含量    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商标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厂家信息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QS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标识                                         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产品标准号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标签认可号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生产许可证号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贮藏方法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版权声明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4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营养成分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图案      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食品广告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7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环保标志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8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口味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9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注意事项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食品图案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商品名称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吸管孔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\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易撕口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比较几种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食品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保质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4792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列表记录几种食品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生产日期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保质日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600" y="2209680"/>
          <a:ext cx="8229600" cy="4343400"/>
        </p:xfrm>
        <a:graphic>
          <a:graphicData uri="http://schemas.openxmlformats.org/drawingml/2006/table">
            <a:tbl>
              <a:tblPr/>
              <a:tblGrid>
                <a:gridCol w="1646280"/>
                <a:gridCol w="1706400"/>
                <a:gridCol w="1752840"/>
                <a:gridCol w="1673280"/>
                <a:gridCol w="145080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食品名称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4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生产日期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保质期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保存条件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250920"/>
            <a:ext cx="885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26028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比较几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品的保质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05264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最近生产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1844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最早生产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28414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最新鲜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3645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保质期最短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450864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保质期最长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11592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观察保质期最短和最长的两种食品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90792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比较两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品的特点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看看食品的特点是否是影响保质期长短的原因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21337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比较两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品的包装和保存的方法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看看不同的包装和保存方法是否是保质期长短的原因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3284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比较两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品的配料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看看是否有影响保质期长短的因素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7280" y="443700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如果是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同一种食品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我们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选择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保质期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长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的食品，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还是选择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保质期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短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的食品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56610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选择食品应根据实际需要：如果是短期内能食用完的，一般考虑保质期短的食品……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26028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调查了解食品的配料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6000" y="1052640"/>
            <a:ext cx="89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先看看食品的配料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 rot="5400000">
            <a:off x="-1192320" y="328788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牛奶饼干的配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6370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麦粉、白砂糖、精炼植物油、转化糖浆、全脂奶粉、淀粉、膨松剂、食盐、食用香精、乳化剂</a:t>
            </a: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20" y="189000"/>
            <a:ext cx="219132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方正姚体"/>
              </a:rPr>
              <a:t>把我们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方正姚体"/>
              </a:rPr>
              <a:t>熟悉的配料</a:t>
            </a: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方正姚体"/>
              </a:rPr>
              <a:t>找出来，推测它们在食品中起的作用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56000" y="981000"/>
            <a:ext cx="7056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小麦粉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-----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饼干的主要成分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白砂糖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精炼植物油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全脂奶粉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淀粉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食盐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5334120"/>
            <a:ext cx="884160" cy="133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724360" y="333360"/>
            <a:ext cx="3097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转化糖浆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膨松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食用香精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乳化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4653000"/>
            <a:ext cx="3456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知道吗，一些</a:t>
            </a:r>
            <a:r>
              <a:rPr b="0" lang="zh-CN" sz="3200" spc="-1" strike="noStrike" u="sng">
                <a:solidFill>
                  <a:srgbClr val="559085"/>
                </a:solidFill>
                <a:uFillTx/>
                <a:latin typeface="Arial"/>
                <a:hlinkClick r:id="rId1" action="ppaction://hlinksldjump"/>
              </a:rPr>
              <a:t>添加剂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对人体有害！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43480" y="3246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·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884160" cy="1338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0" y="838080"/>
            <a:ext cx="5257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把我们不熟悉的配料找出来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猜猜它们是些什么东西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2-19T05:42:5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